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587-46BC-4606-9983-B71EB3D7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75992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884-CAC1-4718-B3BD-5F54FA40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75992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75992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1E5-9451-40FC-B386-FF17A84B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2060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2060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75992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75992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75992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177-3060-4CF7-9866-1A8B3CDF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377A-613D-4B95-B2ED-E86C201C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D286-7C77-401F-9B65-6B36C5CC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9546-5417-495E-B5BF-D306C927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EC5C-28AB-476A-8166-66EA5462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A517-0939-4898-B22C-97473FC8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D5D9-9C33-4731-A330-C945D3D9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75992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A903-8A87-4DF4-8545-E6E4DD4F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855-BC7C-46A5-A997-2751429A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75992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2C45-365B-4D4D-B42D-BF4D7A9D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75992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0D8D-588B-48A4-A7D4-49A93D57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75992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BE03-680E-4F04-8DC3-BDC05690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75992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75992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DA8B-9671-4037-A69A-D7AC31EB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2060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2060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75992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75992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759920"/>
            <a:ext cx="264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BD97-69EE-472A-8FB3-731BC3EB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62C-B77F-4BD7-A974-B048BD5F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181-F802-4AE1-BEAA-C9EA8F7F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C2B-2015-46A7-9F9A-33E6A3FF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462-801A-4B50-8600-5CE96E3E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75992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967D-9E1F-4127-80AE-A89AE0C8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75992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1FF-0D58-494E-86BF-868FF6BF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20600"/>
            <a:ext cx="40158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759920"/>
            <a:ext cx="82296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F546-8673-480D-8C0B-5989B70E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b2d1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d3481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492680"/>
            <a:ext cx="2133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497720"/>
            <a:ext cx="2895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492680"/>
            <a:ext cx="2133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3129-4A6A-4BFD-A6C8-7EC50698473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74680"/>
            <a:ext cx="8229600" cy="7318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731880"/>
              <a:gd name="textAreaBottom" fmla="*/ 731880 h 7318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7407360"/>
            <a:ext cx="8229600" cy="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463760"/>
            <a:ext cx="7925040" cy="109692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1096920"/>
              <a:gd name="textAreaBottom" fmla="*/ 1097280 h 10969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4754520"/>
            <a:ext cx="6512040" cy="0"/>
          </a:xfrm>
          <a:prstGeom prst="line">
            <a:avLst/>
          </a:prstGeom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b2d1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d34817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7492680"/>
            <a:ext cx="2133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7492680"/>
            <a:ext cx="2895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7492680"/>
            <a:ext cx="2133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1241-0E0D-4C36-9735-765245C31EF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youtube.com/watch?v=yNk_osZWScw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aytQJzdhILM&amp;NR=1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740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United States should avoid conflict with other countries at any c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United States should object to the policies of other countries to protect those who are threatened or harmed by them, even when our own security is at ris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SzPct val="6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United States should object to the policies of other countries only if our own security is at ris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The Soviet Unio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pic>
        <p:nvPicPr>
          <p:cNvPr id="108" name="Picture 6" descr="soviet_propaganda"/>
          <p:cNvPicPr/>
          <p:nvPr/>
        </p:nvPicPr>
        <p:blipFill>
          <a:blip r:embed="rId1"/>
          <a:stretch/>
        </p:blipFill>
        <p:spPr>
          <a:xfrm>
            <a:off x="2678040" y="1096920"/>
            <a:ext cx="386100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Soviet Unio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17: Russian Communist Rev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totalitarian state (Vladamir Len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24: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Joseph Stal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comes head of the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60154-004-B3985FCD"/>
          <p:cNvPicPr/>
          <p:nvPr/>
        </p:nvPicPr>
        <p:blipFill>
          <a:blip r:embed="rId1"/>
          <a:stretch/>
        </p:blipFill>
        <p:spPr>
          <a:xfrm>
            <a:off x="3352680" y="4022640"/>
            <a:ext cx="20797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Joseph Stali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 of Stee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spicious, cruel, ruthless, tyrann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form the Soviet Un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ustrial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-run collective fa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 million dea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at Terror (1930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ge of the Communist Pa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Joseph Stali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384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bination of fear and massive propaganda kept Stalin in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talin-140508_27880t"/>
          <p:cNvPicPr/>
          <p:nvPr/>
        </p:nvPicPr>
        <p:blipFill>
          <a:blip r:embed="rId1"/>
          <a:stretch/>
        </p:blipFill>
        <p:spPr>
          <a:xfrm>
            <a:off x="5029200" y="639720"/>
            <a:ext cx="364176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Italy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pic>
        <p:nvPicPr>
          <p:cNvPr id="118" name="Picture 6" descr="ITALIAN-FASCISM_624080"/>
          <p:cNvPicPr/>
          <p:nvPr/>
        </p:nvPicPr>
        <p:blipFill>
          <a:blip r:embed="rId1"/>
          <a:stretch/>
        </p:blipFill>
        <p:spPr>
          <a:xfrm>
            <a:off x="2139840" y="1371600"/>
            <a:ext cx="432756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Italy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itarianism—direct result of the war and the peace trea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st mo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ak and inept 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Benito Mussolini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384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19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asci di Combattimen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Fascist Par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ht-wing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otes nationa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ised to make Italy great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ack Shirt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ght socialists and commun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Benito_Mussolini"/>
          <p:cNvPicPr/>
          <p:nvPr/>
        </p:nvPicPr>
        <p:blipFill>
          <a:blip r:embed="rId1"/>
          <a:stretch/>
        </p:blipFill>
        <p:spPr>
          <a:xfrm>
            <a:off x="5240160" y="45720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Benito Mussolini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22: forms 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l Duce” (“the leader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led government and army within a few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aws political par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ed 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ret po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th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ressed str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sed liberalism and socia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Benito Mussolini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20600"/>
            <a:ext cx="40384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ver held the same power over Italy that Stalin held over the Soviet Un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mussolini"/>
          <p:cNvPicPr/>
          <p:nvPr/>
        </p:nvPicPr>
        <p:blipFill>
          <a:blip r:embed="rId1"/>
          <a:stretch/>
        </p:blipFill>
        <p:spPr>
          <a:xfrm>
            <a:off x="533520" y="1371600"/>
            <a:ext cx="337644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Characteristics of a totalitarian state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18908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party dictatorship exerting control over all aspects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, charismatic leader often at head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control of the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police, spies, and terror to enforce the will of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ontrol the media and use of propaganda to indoctrinate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chools and youth to spread ideology to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ct censorship of artists, intellectuals, and political rivals with dissenting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1553760"/>
            <a:ext cx="76230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464"/>
                </a:solidFill>
                <a:latin typeface="Garamond"/>
              </a:rPr>
              <a:t>The Coming of War</a:t>
            </a:r>
            <a:endParaRPr b="0" lang="en-US" sz="50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42640" y="2468520"/>
            <a:ext cx="655308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31-19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Germany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pic>
        <p:nvPicPr>
          <p:cNvPr id="132" name="Picture 5" descr="a55_longlive"/>
          <p:cNvPicPr/>
          <p:nvPr/>
        </p:nvPicPr>
        <p:blipFill>
          <a:blip r:embed="rId1"/>
          <a:stretch/>
        </p:blipFill>
        <p:spPr>
          <a:xfrm>
            <a:off x="2438280" y="1189080"/>
            <a:ext cx="484344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Weimar Republic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rman democ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ggled throughout the 1920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ing new 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conomic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naway inf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ented the Treaty of Versail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ldwide Great De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The Nazis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384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Socialist German Workers’ Par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sed socialism, commu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 ethnic solidar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trotz"/>
          <p:cNvPicPr/>
          <p:nvPr/>
        </p:nvPicPr>
        <p:blipFill>
          <a:blip r:embed="rId1"/>
          <a:stretch/>
        </p:blipFill>
        <p:spPr>
          <a:xfrm>
            <a:off x="4614840" y="549360"/>
            <a:ext cx="399564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Adolph Hitler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ined the small Nazi Party after WW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on gained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ein Kamp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“My Struggle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ained Germany’s trou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, political programs, ide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mmunis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J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9b2d1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Semitism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lined hatreds, plans for world dom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Adolph Hitler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79080"/>
            <a:ext cx="4038480" cy="607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33: Hitler appointed chancellor of Germ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34: Führ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te control of state and milit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checked by Reichst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bol of the totalitarian reg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ret po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-controlled press, education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timeline_1939_06"/>
          <p:cNvPicPr/>
          <p:nvPr/>
        </p:nvPicPr>
        <p:blipFill>
          <a:blip r:embed="rId1"/>
          <a:stretch/>
        </p:blipFill>
        <p:spPr>
          <a:xfrm>
            <a:off x="4689360" y="1554120"/>
            <a:ext cx="4024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Adolph Hitler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384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nomic policies ended depr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rma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works pro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itical initiatives restricted free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i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5" descr="Nurnberg27"/>
          <p:cNvPicPr/>
          <p:nvPr/>
        </p:nvPicPr>
        <p:blipFill>
          <a:blip r:embed="rId1"/>
          <a:stretch/>
        </p:blipFill>
        <p:spPr>
          <a:xfrm>
            <a:off x="3886200" y="2160720"/>
            <a:ext cx="5029200" cy="4138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6"/>
          <p:cNvSpPr/>
          <p:nvPr/>
        </p:nvSpPr>
        <p:spPr>
          <a:xfrm>
            <a:off x="4881240" y="6492960"/>
            <a:ext cx="28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Propaganda against Je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Japa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pic>
        <p:nvPicPr>
          <p:cNvPr id="148" name="Picture 5" descr="Manchuguo Poster"/>
          <p:cNvPicPr/>
          <p:nvPr/>
        </p:nvPicPr>
        <p:blipFill>
          <a:blip r:embed="rId1"/>
          <a:stretch/>
        </p:blipFill>
        <p:spPr>
          <a:xfrm>
            <a:off x="2867040" y="1371600"/>
            <a:ext cx="367200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Japa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20s: democ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d military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men have the right to v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galized trade un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verse political pa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Japa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at Depression ended this peri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ing military power could solve economic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pan did not become a totalitarian dictato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itutional monarc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Japa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40384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gressive military expan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31: Manchu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37: control over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lroads, coast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pe of Nanj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ManchuManchuria"/>
          <p:cNvPicPr/>
          <p:nvPr/>
        </p:nvPicPr>
        <p:blipFill>
          <a:blip r:embed="rId1"/>
          <a:stretch/>
        </p:blipFill>
        <p:spPr>
          <a:xfrm>
            <a:off x="4419720" y="2193840"/>
            <a:ext cx="426708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The Treaty of Versailles (1919)</a:t>
            </a:r>
            <a:br>
              <a:rPr sz="4200"/>
            </a:b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map%20of%20versailles.jpg"/>
          <p:cNvPicPr/>
          <p:nvPr/>
        </p:nvPicPr>
        <p:blipFill>
          <a:blip r:embed="rId1"/>
          <a:stretch/>
        </p:blipFill>
        <p:spPr>
          <a:xfrm>
            <a:off x="380880" y="1096920"/>
            <a:ext cx="8458200" cy="695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1930s: The Decade of Aggressio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est lack all conviction and the worst are full of passionate intensity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lliam Butler Ye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1930s: The Decade of Aggressio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as strong as its members’ resol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t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unifying Germanic people under one Reich (st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ar; Rhinel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soli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35: Invasion of Ethiop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1930s: The Decade of Aggression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anish Civil War (1936-193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ists (fascists) rebelled against democratic Republican govern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ists aided by Hitler and Mussoli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viet Union aids Republic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nce, Britain, U.S. remain uninvolv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Appeasement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ants concessions to a potential enemy in the hope that it will maintain pe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Li'l Hit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stria—Anschlu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detenland (w. Czechoslovak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nich Pact: “peace for our time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 months later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6464"/>
                </a:solidFill>
                <a:latin typeface="Garamond"/>
              </a:rPr>
              <a:t>WHY DIDN’T BRITAIN STOP HITLER?</a:t>
            </a:r>
            <a:endParaRPr b="0" lang="en-US" sz="40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345360" cy="792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2057400" y="0"/>
            <a:ext cx="497052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521000" y="0"/>
            <a:ext cx="610056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380880" y="1109520"/>
            <a:ext cx="845820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A Changed Europe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pic>
        <p:nvPicPr>
          <p:cNvPr id="93" name="Content Placeholder 3" descr="WWI.gif"/>
          <p:cNvPicPr/>
          <p:nvPr/>
        </p:nvPicPr>
        <p:blipFill>
          <a:blip r:embed="rId1"/>
          <a:srcRect l="10439" t="5821" r="11068" b="6837"/>
          <a:stretch/>
        </p:blipFill>
        <p:spPr>
          <a:xfrm>
            <a:off x="1219320" y="1317600"/>
            <a:ext cx="678168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A Changed Europe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pic>
        <p:nvPicPr>
          <p:cNvPr id="95" name="Content Placeholder 3" descr="WWI-Europe-51.gif"/>
          <p:cNvPicPr/>
          <p:nvPr/>
        </p:nvPicPr>
        <p:blipFill>
          <a:blip r:embed="rId1"/>
          <a:srcRect l="0" t="1682" r="2756" b="0"/>
          <a:stretch/>
        </p:blipFill>
        <p:spPr>
          <a:xfrm>
            <a:off x="1143000" y="1239840"/>
            <a:ext cx="708660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Dictatorship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tocratic form of absolute r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ership unrestricted by law, constitutions, or other social and political factors within the stat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Totalitarianism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20600"/>
            <a:ext cx="822960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entieth-century phenomen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ingle party or leader controls the economic, social, and cultural lives of its peo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Characteristics of a totalitarian state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8908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party dictatorship exerting control over all aspects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, charismatic leader often at head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control of the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police, spies, and terror to enforce the will of th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ontrol the media and use of propaganda to indoctrinate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schools and youth to spread ideology to citi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ct censorship of artists, intellectuals, and political rivals with dissenting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65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96464"/>
                </a:solidFill>
                <a:latin typeface="Garamond"/>
              </a:rPr>
              <a:t>In other words…</a:t>
            </a:r>
            <a:endParaRPr b="0" lang="en-US" sz="4200" spc="-1" strike="noStrike">
              <a:solidFill>
                <a:srgbClr val="696464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41040"/>
            <a:ext cx="404028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ctat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2609640"/>
            <a:ext cx="404028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verning p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power come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st to democr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atorship: government without people's con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cy: government whose power comes from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404172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itari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4720" y="2609640"/>
            <a:ext cx="404172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verning p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3481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st to 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itarianism: government controls every aspect of people's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b2d1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ralism: government allows multiple lifestyles and opi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05:11:27Z</dcterms:created>
  <dc:creator>Owner</dc:creator>
  <dc:description/>
  <dc:language>en-US</dc:language>
  <cp:lastModifiedBy>hberndt</cp:lastModifiedBy>
  <dcterms:modified xsi:type="dcterms:W3CDTF">2010-03-19T13:17:19Z</dcterms:modified>
  <cp:revision>22</cp:revision>
  <dc:subject/>
  <dc:title>Slide 1</dc:title>
</cp:coreProperties>
</file>